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5017416"/>
        <c:axId val="69893889"/>
      </c:barChart>
      <c:catAx>
        <c:axId val="9501741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9893889"/>
        <c:crosses val="autoZero"/>
        <c:auto val="1"/>
        <c:lblAlgn val="ctr"/>
        <c:lblOffset val="100"/>
        <c:noMultiLvlLbl val="0"/>
      </c:catAx>
      <c:valAx>
        <c:axId val="6989388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501741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A19B9-3D47-4341-BDF7-CF94C694A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1B4C9-8500-4FF8-96B2-3AD6D95A7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F5F34-F404-4CF1-823D-29AE76737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0C53D-8C97-4777-944C-AB9DFA3CF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B98AE-B4B6-4096-A11C-19AA7192F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C267F-FFE0-4454-85FB-D243F713D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ED980-45F9-4454-AE4E-BB09FF0A0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2B8A4-FBFF-40D5-B8E4-56F202290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74D1A-47EE-4431-96EB-6492FF809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C75BC-0921-403B-83B5-96D9018C8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F208E-F8D5-4D8D-9ECE-CA9BD69E5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22AC0-B54B-4625-8005-FE1DF3F0B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B000C-B2B9-41B8-87E3-07DB63ADD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8B785-76FE-4BE3-B777-A5FE24035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17C53-8780-4D2B-B417-66CBAEF06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A93D4-697B-4982-8B2C-DD9F38D6C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45220-86EB-4078-88F6-D51DFEE5A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EDEBB-8F71-4B7C-86B9-4B04AAA60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DA746-191A-4B1E-99CA-9DAB8B886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EED74-0EA3-434A-863A-45F54BA57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82960-6F7F-4B4B-91D3-8DF790403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6D0C2-03A0-410F-847D-8B6614A19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867EB-0F33-4191-9B28-B995BC3D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297D-03BF-47F9-AB08-F5CEEC6FF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DDF7A-C105-422B-8A55-36D77A10475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C4E594-AD0C-4D5E-BD03-ED976914F06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