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9335952"/>
        <c:axId val="97096144"/>
      </c:barChart>
      <c:catAx>
        <c:axId val="59335952"/>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7096144"/>
        <c:crosses val="autoZero"/>
        <c:auto val="1"/>
        <c:lblAlgn val="ctr"/>
        <c:lblOffset val="100"/>
        <c:noMultiLvlLbl val="0"/>
      </c:catAx>
      <c:valAx>
        <c:axId val="9709614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9335952"/>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48D14-CD61-4C0D-8F5F-15EADDA34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D3F13-6A9A-4EE7-80F5-772A0BC4D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7424C-0DEE-4149-B747-CE0468EAF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EDA1C-6AB5-4720-851A-70270350C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6E8FA-B76E-4F0B-A19D-17621D3D7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7913E-BD4F-4DAB-9050-90CFC532C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77476-C71E-435F-B072-3E4E4EA0D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75336-AF0B-4602-A3CA-FE337BA9E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C3243-1966-44C9-B366-EEC0A98FA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95212-C116-4E96-BD91-5126FCB50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D1CE2-F3E6-4085-9129-606E6CE18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A7E98-0062-4CA7-A4B0-37F7EC6C5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A1E19-F912-496A-BDD3-36D12C9C9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B2399-D479-4782-9C4A-988CC304B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7999E-7CA0-4A36-8AAD-F3B48301C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B375D-EC37-4967-9152-1B73C8574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21A69-3B14-4F2B-9C57-01938D33E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A4541-7CC4-4902-BE69-D379198CB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D901A-3424-4CE3-86D9-4C4C8AF28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5306E-1742-46E6-9C4E-F50BAB737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DDE28-B6ED-453D-BFC9-2CCF852E2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44BBD-7F6C-4D8A-A82F-F25FEAAFC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D4123-473B-4925-9227-B304FB776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7726E-DFEA-4978-86B1-2B45DE570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7F65D2-CA3F-47B2-ABF2-DFAA8EA1BBA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AEB9C2-52CE-433C-B860-693263CF43B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