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31655479"/>
        <c:axId val="85699715"/>
      </c:barChart>
      <c:catAx>
        <c:axId val="31655479"/>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5699715"/>
        <c:crosses val="autoZero"/>
        <c:auto val="1"/>
        <c:lblAlgn val="ctr"/>
        <c:lblOffset val="100"/>
        <c:noMultiLvlLbl val="0"/>
      </c:catAx>
      <c:valAx>
        <c:axId val="85699715"/>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1655479"/>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0D7CE-9AE2-4927-8B8C-56B1FF194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EE668-7D90-473E-9BBE-CCD1E8809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BE749-700D-41C0-A359-7F328F536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D8E95-1E01-422E-870F-D33CC1B62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43D2F-BA68-4B06-901A-09FB3E1D0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9E0E3-8F17-420E-8ECF-8BEE6379F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77233-9FD6-426D-981A-4B8417BED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4F8A8-5B7B-4182-A98F-CE49390D9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20C78-BAA7-45F2-9BB3-FA2F1DC7F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9BB57-1100-4C28-A541-F46D39500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46D3D-6219-4230-BD84-EA12786C9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9B97F-688B-4684-B992-ECE0E0EC0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741A8-B1D4-416D-88DB-9193990F6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7E69E-17B7-45B6-8CBE-71C4AC08F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3CFC1-46F2-4082-A748-A9B14845D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3041F-1AC3-47C9-B618-1DB914379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ACF3E1-7231-40EF-AD2A-F1490D0B7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B4877-39CD-43AE-9AD9-53040C52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563A3-BE09-4FED-A156-2CD0F17F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F83DB-964A-4F44-90A4-BC106A041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05E36-3170-4083-9365-50632258B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77168-5828-40DA-BD79-A396B924C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7E629-7165-4E4C-896D-22EBF4992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3230B-55E7-4E5E-82F0-08227E5F0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1EDD92-815A-4CE5-805B-F8060677956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FD07C9-A68D-4CDE-9FB9-68785458207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