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81375381"/>
        <c:axId val="8977116"/>
      </c:barChart>
      <c:catAx>
        <c:axId val="81375381"/>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8977116"/>
        <c:crosses val="autoZero"/>
        <c:auto val="1"/>
        <c:lblAlgn val="ctr"/>
        <c:lblOffset val="100"/>
        <c:noMultiLvlLbl val="0"/>
      </c:catAx>
      <c:valAx>
        <c:axId val="8977116"/>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81375381"/>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2F82AC-F5F4-4F1C-80EE-DE931B2F5F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B31F4-6ED5-4D0B-BE70-9A435DA05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6335FE-38D0-4D03-BFA1-EFBC53AB94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C008DF-3C1B-41D3-9F8B-21149E095D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B58906-459F-4BC6-A435-8E3D522D92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580D69-4B5E-40EB-B237-4CB8D4DDE4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7E2A39-4D6F-4E2C-B712-8E996625F9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0A8D38-F8EB-4F3C-A69E-A0833423F6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5A0FF4-23CF-416A-9A25-77E5F07AAF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F32000-EB0D-4250-B749-0A7C498C43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77609E-A4AC-4153-9F03-B8E765E817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95523-9658-4F7E-BA00-1D1A5555F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5B77D3-3F65-489B-A5B3-3A534DBFB8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FCC39C-C338-42B1-AD7D-0CFB676259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3C88A4-758C-4C6B-BC1F-82453A6F10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7B6351-B172-45A6-9FC0-5F3E130CC1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6FECA8-651D-46E1-A035-5BBB961236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E9B51-C94A-4F5D-80A2-05D124088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67F48-C3F6-4B6C-8BC0-7BAB4E230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EAB98-6A16-4F9C-845B-DF27F5E8A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617D9-B0DC-427A-8693-2171DDC7D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EBEFB-440B-4FEB-9B3B-8334B45BC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F8951-4D33-43FD-8283-C94765492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D3F3C-F827-47C6-9E81-3E9711D326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6CC938-28A2-49D5-856B-1B54CFF69DD9}"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79FA73-4E6E-4442-AAF7-C686245F4E6C}"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